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A3E-B389-457A-8007-5CD814A7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6DC-FB4A-41CE-8E05-D0246D8F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B06-FCA1-47B8-BD2B-49EB49B0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4CF-6F4E-4EFE-BEF5-542BF00B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2FF-6657-49CB-A153-4E69A311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A27-7780-437D-BE9B-D470EB42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4F2-F03F-41C0-B234-4A6127D0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5FA-8132-42AA-8D44-C2B18AFC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3B1-F4E0-4CB9-87C7-42D10D2E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38B-BD84-4573-9F55-ACBF2302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0BA-E4BE-4797-A034-097C2382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034-54F5-49D2-8A68-DF858F55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FB9C-B1CC-45F8-B073-EDBE6E9CC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uthernbaychurch.com/images/feather%20Pen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eocities.com/lostcause777/PoetryPen2.gif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a Francis, Gail Barlo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a Sock and Rose L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4316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4316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914400"/>
            <a:ext cx="2201760" cy="2201760"/>
          </a:xfrm>
          <a:prstGeom prst="rect">
            <a:avLst/>
          </a:prstGeom>
          <a:ln w="0">
            <a:noFill/>
          </a:ln>
        </p:spPr>
      </p:pic>
      <p:pic>
        <p:nvPicPr>
          <p:cNvPr id="4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51055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ure Po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1447920"/>
            <a:ext cx="632484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AK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S HOW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ORNS CL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HE DRY G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images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1238400" cy="1363680"/>
          </a:xfrm>
          <a:prstGeom prst="rect">
            <a:avLst/>
          </a:prstGeom>
          <a:ln w="0">
            <a:noFill/>
          </a:ln>
        </p:spPr>
      </p:pic>
      <p:pic>
        <p:nvPicPr>
          <p:cNvPr id="72" name="Acorn" descr=""/>
          <p:cNvPicPr/>
          <p:nvPr/>
        </p:nvPicPr>
        <p:blipFill>
          <a:blip r:embed="rId2"/>
          <a:stretch/>
        </p:blipFill>
        <p:spPr>
          <a:xfrm flipH="1" rot="10800000">
            <a:off x="6629400" y="5105520"/>
            <a:ext cx="16765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easiest types of poetry to 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n’t rhyme and has no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oem is made up of three lines only with seventeen syll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4419720"/>
            <a:ext cx="7467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/ter/day/I/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/fast/and/grabbed/my/back/pac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/hur/ry/to/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Haiku,_Ben" descr=""/>
          <p:cNvPicPr/>
          <p:nvPr/>
        </p:nvPicPr>
        <p:blipFill>
          <a:blip r:embed="rId1"/>
          <a:stretch/>
        </p:blipFill>
        <p:spPr>
          <a:xfrm>
            <a:off x="6629400" y="4924440"/>
            <a:ext cx="15238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 Po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known as catalog or list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have to have rhyme or rhy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rules for life poetry is that you have to be hon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best life poets of cultural significance is a Mi’kmaq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ta J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0920304850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424240" cy="3276720"/>
          </a:xfrm>
          <a:prstGeom prst="rect">
            <a:avLst/>
          </a:prstGeom>
          <a:ln w="0">
            <a:noFill/>
          </a:ln>
        </p:spPr>
      </p:pic>
      <p:pic>
        <p:nvPicPr>
          <p:cNvPr id="81" name="026" descr=""/>
          <p:cNvPicPr/>
          <p:nvPr/>
        </p:nvPicPr>
        <p:blipFill>
          <a:blip r:embed="rId2"/>
          <a:stretch/>
        </p:blipFill>
        <p:spPr>
          <a:xfrm>
            <a:off x="5638680" y="2057400"/>
            <a:ext cx="2552760" cy="2971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20574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a Joe Book of 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a 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bute to Je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once was a man from Miramic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taught us about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thought cursive writing was pass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his students had something to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pite his ravings, he grudgingly agr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sacred-texts.com/cla/ari/poe/poe05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hsc.csu.edu.au/english/extension2/additionl_resources/ext2resourced/dw_ext2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home.cogeco.ca/~rayser3/index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dhelllper.com/readingComprehensions_31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readwrite.org/material/acro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acrostic1.ht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readwrite.or/material/limer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nativepeopl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w.poets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.Gigglepoetr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ng poetry within the class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ing technology while delivering poetry with the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a general understanding of what poetry is and what it is us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a list of on-line resources for educators to use while teaching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et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etry sprung from our basic instin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instinct for im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instinct for harmony and rhy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 of Po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52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ncil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ing of M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 Five Reason Why Students Should Study Po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etry supports the development of the building blocks of  lite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etry addresses the needs to raise standards for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etry teaches and reinforces grammar and 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etry provides a focus on reading, writing and c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etry is an acceptable way for students to express emotions and feel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ous Forms of Po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ro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e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List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ture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i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6765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various forms of Poetry.  We will be giving a brief overview of six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rostic poems spells a word vert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escribes the word that is being spe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em must relate to the word being spe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c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key is my favorite s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t c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nt the peri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ck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y, play the puck, bo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ck!  The puck just hit me in the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Jus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mages" descr=""/>
          <p:cNvPicPr/>
          <p:nvPr/>
        </p:nvPicPr>
        <p:blipFill>
          <a:blip r:embed="rId1"/>
          <a:stretch/>
        </p:blipFill>
        <p:spPr>
          <a:xfrm>
            <a:off x="7086600" y="5318280"/>
            <a:ext cx="99072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er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merick poem has fiv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s 1, 2, and 5 are known as triplet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s 3 and 4 are known as couplet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809880"/>
            <a:ext cx="7543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was a young lady named 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had a large wart on her n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she had it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 appearance improv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her glasses slipped down to her t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List Po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only need a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list about that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images" descr=""/>
          <p:cNvPicPr/>
          <p:nvPr/>
        </p:nvPicPr>
        <p:blipFill>
          <a:blip r:embed="rId1"/>
          <a:stretch/>
        </p:blipFill>
        <p:spPr>
          <a:xfrm>
            <a:off x="1676520" y="4952880"/>
            <a:ext cx="915840" cy="1211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69960" y="4460760"/>
            <a:ext cx="443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0"/>
            <a:ext cx="2209680" cy="74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e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v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y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nfl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l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era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4:28:15Z</dcterms:created>
  <dc:creator>Rose</dc:creator>
  <dc:description/>
  <dc:language>en-US</dc:language>
  <cp:lastModifiedBy>labpc</cp:lastModifiedBy>
  <dcterms:modified xsi:type="dcterms:W3CDTF">2007-02-27T20:19:53Z</dcterms:modified>
  <cp:revision>22</cp:revision>
  <dc:subject/>
  <dc:title>Poetry</dc:title>
</cp:coreProperties>
</file>